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3594-6452-45BE-B100-87E3505A1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5D86-E06A-4FFD-B5E2-6552A25F1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876B-191E-4413-A718-405A65447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F17E-16C7-4D74-B37A-B39FA2EB4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3A689-BD15-4D7E-AD75-04C7274CD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42638-B05D-426A-A6BA-A98A24EA4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CC436-732E-42AD-AD1B-030EE8E7F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CCD6A-8376-4B6F-AC2F-5AE66E4ED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A8A72-5F27-4CC4-B971-A0206F909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F7765-CFE6-4905-B01E-B032BF74A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A15E8-3AAD-42E7-AB46-2E4B284B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D37F-8858-41A0-A9D7-01A592EE4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73304-21ED-4450-A101-140024DD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34AF6-7EA9-43F1-8F72-65689BDE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261B5-7056-4E5A-9406-0E472D30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51082-D17E-4033-99E8-4CA4AD7E7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72AE9-2367-4D8F-B8C9-B4E45705B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6D4A-0C82-4D7F-9884-2D4FF34FD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B34B-42DD-429E-BFC6-209896EE4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70EF-C0F0-4D46-9137-83DE47966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DB59-4687-4D11-8DC1-B934B21F6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BB92-11DD-49F5-A864-E1ADF626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5FC9-B115-4B0F-863E-9B6FC9E7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D03F-D89B-4523-A996-D175C9C0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E2B7F-0BF3-4F70-AEE0-BE5FA61376E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2B58A-6E1F-44D7-95BB-05DDFD03524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ICo Arithmetic and Logic Uni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바탕"/>
              </a:rPr>
              <a:t>The Need for Spe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바탕"/>
              </a:rPr>
              <a:t>(with minimal area and power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LU Top Level Topology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 primary logic block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hift, Add, Compare, And, Or, OutMux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ass A Direct to Ou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hift Topology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rray of mux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ritical Path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-&gt;Compare-&gt;MUX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4648320" y="1600200"/>
            <a:ext cx="4267080" cy="4495680"/>
          </a:xfrm>
          <a:prstGeom prst="rect">
            <a:avLst/>
          </a:prstGeom>
          <a:ln w="0">
            <a:noFill/>
          </a:ln>
        </p:spPr>
      </p:pic>
    </p:spTree>
  </p:cSld>
  <p:transition advTm="60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etric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tal widt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2775.5 micromet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wer consum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42 milliWat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l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 nanosecon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60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dder Block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irror Adder used as the individual full add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rry-select topolog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ariable block sizes of 6-4-3-2-1 for O(N^0.5) delay growth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457200" y="2259000"/>
            <a:ext cx="4038480" cy="8715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457200" y="4089240"/>
            <a:ext cx="4038480" cy="1892520"/>
          </a:xfrm>
          <a:prstGeom prst="rect">
            <a:avLst/>
          </a:prstGeom>
          <a:ln w="0">
            <a:noFill/>
          </a:ln>
        </p:spPr>
      </p:pic>
    </p:spTree>
  </p:cSld>
  <p:transition advTm="60000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Subtraction 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(The Adder Extended)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tilizes the adder to implement two’s complement subtra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in= 1 and B invert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ith these conditions selected by a mux based on the sub op code the add becomes two’s comple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nimizes Area and power (only one structure)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advTm="60000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rbitrary Function: Comparator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ree Scenario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gnified by three most significant bit outpu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0:13 ground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6bit XOR and 16bit NAND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etermines if A==B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ubtract Utiliz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wo’s complement output of ADD block compares A and B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rawback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rea and extra NAND delay on critical path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4572000" y="1600200"/>
            <a:ext cx="4343400" cy="4495680"/>
          </a:xfrm>
          <a:prstGeom prst="rect">
            <a:avLst/>
          </a:prstGeom>
          <a:ln w="0">
            <a:noFill/>
          </a:ln>
        </p:spPr>
      </p:pic>
    </p:spTree>
  </p:cSld>
  <p:transition advTm="60000">
    <p:push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UX Topolog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3962160" cy="37339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800600" y="1523880"/>
            <a:ext cx="3809880" cy="3733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04920" y="54100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 to 1 MUX Pass Gate Schemat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876920" y="54100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8 to 1 MUX built from 2 to 1 MUX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Optimizat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zed the mirror adder according to logical effort, as shown in the textboo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nimum sized all the other functions as they are not the worst case pat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uffered all the long (&gt;3) transmission gate paths for more spee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advTm="60000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Register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air of muxes with feedback and buffered Q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533520" y="3352680"/>
            <a:ext cx="7924680" cy="2724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8T23:20:26Z</dcterms:created>
  <dc:creator>ITC Labs and Classrooms</dc:creator>
  <dc:description/>
  <dc:language>en-US</dc:language>
  <cp:lastModifiedBy>Andrew Ashworth</cp:lastModifiedBy>
  <dcterms:modified xsi:type="dcterms:W3CDTF">2008-04-29T14:54:22Z</dcterms:modified>
  <cp:revision>4</cp:revision>
  <dc:subject/>
  <dc:title>PICo Arithmetic and Logic Unit</dc:title>
</cp:coreProperties>
</file>